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A31A6-0C89-4306-BEE3-E3FDBF8D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FF98C-62CE-4C56-995A-0A6C5104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42674-5E2F-4DE6-88F3-8B05BCC4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38C9C-0CC2-45DF-92C1-579ED071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67BC-C654-4F82-8889-875289EF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F7B2-D99B-44F6-9E2B-9CC56BB6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5856-A05C-4CC6-97C3-0CE30750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1E59-F2A6-401E-B83F-FF4F59E7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97C7-D0B2-4C89-A3C9-34655EB3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07EC-9E3D-48DD-9A78-FEA3061A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A4F0-347B-4047-B845-BE99E69B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4759F-EDDD-486D-BDCF-EA62CD4D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5F56-7E8B-49D1-9597-49539884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BC21-E60F-4228-9D70-226E98DB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32F6-C965-475B-A315-76312BE8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B3B7-7B55-4ADA-A962-D0CF6A28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913C-E58E-4020-AC16-96266B92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9FDCC-D15F-485C-A3BE-3BFA3E76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A580C-13F5-4EA2-AB45-A5B4B53E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952E9-0C8B-421A-8865-7243358E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175AF-EB4D-4969-8C7F-650C0A64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2364F-DF30-4C8B-914F-E91F11BA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54291-F69B-4A1E-BDEE-463C1BE1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1894D-DC65-496F-BFAB-9ADF4454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2261-3D3D-4E8E-A8E3-9795172FF0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505E-23CF-4948-B458-1B25AD3E7D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imple Shift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78000" y="177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000" y="1326960"/>
            <a:ext cx="7261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encipher/decipher using a simple shif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70200" y="2114640"/>
            <a:ext cx="5121360" cy="4476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7680" y="231624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0" y="291636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Simple Shif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under the Ciphers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37960" y="3959280"/>
            <a:ext cx="3124440" cy="842760"/>
            <a:chOff x="237960" y="3959280"/>
            <a:chExt cx="3124440" cy="842760"/>
          </a:xfrm>
        </p:grpSpPr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237960" y="3959280"/>
              <a:ext cx="312444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981160" y="4416480"/>
              <a:ext cx="238320" cy="10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95640" y="496404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shif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" y="549756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En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440" y="4029120"/>
            <a:ext cx="542880" cy="295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30400" y="276372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57040" y="45068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mnxnxfxfruq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EB6B4-7E37-4691-AB49-361A0248B6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14T22:44:56Z</dcterms:modified>
  <cp:revision>68</cp:revision>
  <dc:subject/>
  <dc:title>CAP Cryptographic Analysis Program</dc:title>
</cp:coreProperties>
</file>